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12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16BA-75E3-42F1-BA71-9D15AC7B8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68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: there will always be nonstandard data and the need for software that handles this.  Where should this stuf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D89-84F9-44A9-BD46-30CA5D99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E1D-AF28-46E5-B127-A32EC38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155-2478-498C-B41E-8A4D51E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AAF-F239-48E8-8CC2-4F753B55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C6F-B653-4411-B251-7E4626A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868-3741-4CC2-9747-26405E6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8F6-7540-40F6-BE12-BFDBB5E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EF2-3A1C-4D98-8316-524C70E9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5E2-2CF9-45BD-A196-BAFAFBAB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981-D9E8-40A4-9B32-499CF28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7E9-5777-4D58-8B3A-2D6C86A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B3E-79D1-4F60-A6EC-D46AC77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EC2B-3ADB-4729-A384-997894AD9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et creation with the Open Source developm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sds_logo" descr=""/>
          <p:cNvPicPr/>
          <p:nvPr/>
        </p:nvPicPr>
        <p:blipFill>
          <a:blip r:embed="rId1"/>
          <a:stretch/>
        </p:blipFill>
        <p:spPr>
          <a:xfrm>
            <a:off x="4267080" y="5192640"/>
            <a:ext cx="5813640" cy="236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514600"/>
            <a:ext cx="9524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.S. Wei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orge Maso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scs.gmu.edu/~rweigel/ts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924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usage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9064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 access to data for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= ts_slice(NAME,[1963 1 1],[2005 12 31],’hou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has 24*(365*32+366*11) rows and N colum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= find( (DATA(:,1) &gt; a) &amp; (DATA(:,2) &lt; b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( DATA(I-10:I+10,: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ng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et command to mirror relevan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ave/Perl, etc, command to re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links for more information and insert “how to cite”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haring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extract(‘RawDataDir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insert(‘TestDataDir’)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upload(‘PolishedDataDir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s_upd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and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64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it be used or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thers build upon it and contrib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latform is the mos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e of the mos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the leas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“individual use only”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ac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list of data sets used, produce an acknowledgemen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 real data base and data exchang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 VxOs develop tools that can be used for such smaller scale projects and data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6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402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better communicate with myself/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ccess to my own data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of data preparation and redu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of my data with colleagues an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 forma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eful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and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ata sets will never be available f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ing now leads to less effort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e to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efforts: TSDS, PaPCo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9064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finish build is available: “make all”.  In principle, entire database can be re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wants something that doesn’t exist, builds it himself, then gives i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ther specialt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othe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5211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676160"/>
            <a:ext cx="9064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SD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ftware and data package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s in a single file and metadata format, a set of programs for creating them from their original format, and a set of programs for reading, exporting, and exchanging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Octave (or Matlab) and has been tested on Linux/OS X/Win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ic interaction does not require knowledge of Oct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&gt;&gt; </a:t>
            </a: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DATA = ts_slice('NAME',[1995,1,1],[2001,12,31],'hour');</a:t>
            </a: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&gt;&gt; ts_export(DATA,'DATA.tx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ame is a data set in Augsburg, CDAWeb, COHOWeb, DMI, FMI, ISGI, Kyoto, NGDC, Nagoya, OMNIWeb, SEC, USAF, WSO, &amp; mode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sds_logo" descr=""/>
          <p:cNvPicPr/>
          <p:nvPr/>
        </p:nvPicPr>
        <p:blipFill>
          <a:blip r:embed="rId1"/>
          <a:stretch/>
        </p:blipFill>
        <p:spPr>
          <a:xfrm>
            <a:off x="6226200" y="0"/>
            <a:ext cx="3908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5211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676160"/>
            <a:ext cx="9064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SD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ftware and data package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s in a single file and metadata format, a set of programs for creating them from their original format, and a set of programs for reading, exporting, and exchanging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Octave (or Matlab) and has been tested on Linux/OS X/Win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ic interaction does not require knowledge of Oct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&gt;&gt; </a:t>
            </a: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DATA = ts_slice('NAME',[1995,1,1],[2001,12,31],'hour');</a:t>
            </a:r>
            <a:r>
              <a:rPr b="1" lang="en-US" sz="2800" spc="-1" strike="noStrike">
                <a:solidFill>
                  <a:srgbClr val="ff0000"/>
                </a:solidFill>
                <a:latin typeface="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ld"/>
              </a:rPr>
              <a:t>&gt;&gt; ts_export(DATA,'DATA.tx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ame is a data set in Augsburg, CDAWeb, COHOWeb, DMI, FMI, ISGI, Kyoto, NGDC, NSSDC, Nagoya, OMNIWeb, SEC, USAF, WSO, Yah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sds_logo" descr=""/>
          <p:cNvPicPr/>
          <p:nvPr/>
        </p:nvPicPr>
        <p:blipFill>
          <a:blip r:embed="rId1"/>
          <a:stretch/>
        </p:blipFill>
        <p:spPr>
          <a:xfrm>
            <a:off x="6226200" y="0"/>
            <a:ext cx="3908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52117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90644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sburg – ULF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DA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MI – 1 hour &amp; 1 min gnd magnetometer in WD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MI – 1 min gnd magnetometer in W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GI – am, Ap, quiet d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y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Web – transform matrix to GSE from GSM, GEI, GEO, GSM, GSEQ, HEE, HAE, HE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NI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 – Real time sola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F – predic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SA – predicted V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 and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– unzip and start; all dependencies are in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X – need Octave o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XP – need Octave o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638520"/>
            <a:ext cx="90644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105520"/>
            <a:ext cx="90644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core .m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.pl format convers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.m format convers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</cp:lastModifiedBy>
  <dcterms:modified xsi:type="dcterms:W3CDTF">2006-05-23T10:44:06Z</dcterms:modified>
  <cp:revision>137</cp:revision>
  <dc:subject/>
  <dc:title>[The Virtual Radiation Belt Observatory]</dc:title>
</cp:coreProperties>
</file>