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12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5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5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8CA6E-75BF-4937-8F91-03B641D7C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24160" cy="37688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point: there will always be nonstandard data and the need for software that handles this.  Where should this stuff g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2B6B-111E-46FA-BEB8-E51598C9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B3F-F9FC-4C9E-973E-9DE3CF00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1D0-8DA5-4BCF-8273-78B62A25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B12-BF76-4B1D-85B2-7D225560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1430-37D0-4BA7-9150-71B3FFF8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017-BE48-4228-A28F-91A5D612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2E6-056A-4553-A36A-4A15A8E3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9643-5F2C-49FD-87B0-069E95B7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D690-AC22-40EF-999E-5883F444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C5C-8053-41BF-9A0D-3C30F22A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DEF-D166-4487-AD2C-F534BABE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BF0-5074-4541-A6EF-42304D51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ED1F1-73FD-4861-A3B4-72AEC5F0BD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et creation with the Open Source developmen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sds_logo" descr=""/>
          <p:cNvPicPr/>
          <p:nvPr/>
        </p:nvPicPr>
        <p:blipFill>
          <a:blip r:embed="rId1"/>
          <a:stretch/>
        </p:blipFill>
        <p:spPr>
          <a:xfrm>
            <a:off x="4267080" y="5192640"/>
            <a:ext cx="5813640" cy="2367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2514600"/>
            <a:ext cx="9524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.S. Wei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George Mason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www.scs.gmu.edu/~rweigel/ts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924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usage 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906444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ck access to data for hypothesis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= ts_slice(NAME,[1963 1 1],[2005 12 31],’hou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has 24*(365*32+366*11) rows and N colum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= find( (DATA(:,1) &gt; a) &amp; (DATA(:,2) &lt; b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ot( DATA(I-10:I+10,:)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ng a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get command to mirror relevant 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ctave/Perl, etc, command to re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links for more information and insert “how to cite”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haring a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s_extract(‘RawDataDir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s_insert(‘TestDataDir’)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s_upload(‘PolishedDataDir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s_updat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and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371240"/>
            <a:ext cx="9064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it be used or use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6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others build upon it and contribu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 platform is the most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6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one of the most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 is the least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6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“individual use only”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ac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6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list of data sets used, produce an acknowledgement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a real data base and data exchange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6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the VxOs develop tools that can be used for such smaller scale projects and data manag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61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9402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I better communicate with myself/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access to my own data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use of data preparation and reductio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ing of my data with colleagues an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le format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ceful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and Vers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data sets will never be available form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ing now leads to less effort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he to f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1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Data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x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efforts: TSDS, PaPCo, 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57200"/>
            <a:ext cx="9064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finish build is available: “make all”.  In principle, entire database can be re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wants something that doesn’t exist, builds it himself, then gives it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other specialty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with other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5211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676160"/>
            <a:ext cx="90644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SD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software and data package with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i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s in a single file and metadata format, a set of programs for creating them from their original format, and a set of programs for reading, exporting, and exchanging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Octave (or Matlab) and has been tested on Linux/OS X/WinX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basic interaction does not require knowledge of Oct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ld"/>
              </a:rPr>
              <a:t>&gt;&gt; </a:t>
            </a:r>
            <a:r>
              <a:rPr b="1" lang="en-US" sz="2400" spc="-1" strike="noStrike">
                <a:solidFill>
                  <a:srgbClr val="ff0000"/>
                </a:solidFill>
                <a:latin typeface="bold"/>
              </a:rPr>
              <a:t>DATA = ts_slice('NAME',[1995,1,1],[2001,12,31],'hour');</a:t>
            </a:r>
            <a:r>
              <a:rPr b="1" lang="en-US" sz="2800" spc="-1" strike="noStrike">
                <a:solidFill>
                  <a:srgbClr val="ff0000"/>
                </a:solidFill>
                <a:latin typeface="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ld"/>
              </a:rPr>
              <a:t>&gt;&gt; ts_export(DATA,'DATA.txt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name is a data set in Augsburg, CDAWeb, COHOWeb, DMI, FMI, ISGI, Kyoto, NGDC, Nagoya, OMNIWeb, SEC, USAF, WSO, &amp; model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sds_logo" descr=""/>
          <p:cNvPicPr/>
          <p:nvPr/>
        </p:nvPicPr>
        <p:blipFill>
          <a:blip r:embed="rId1"/>
          <a:stretch/>
        </p:blipFill>
        <p:spPr>
          <a:xfrm>
            <a:off x="6226200" y="0"/>
            <a:ext cx="39085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5211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676160"/>
            <a:ext cx="90644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SD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software and data package with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i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s in a single file and metadata format, a set of programs for creating them from their original format, and a set of programs for reading, exporting, and exchanging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Octave (or Matlab) and has been tested on Linux/OS X/WinX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basic interaction does not require knowledge of Oct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ld"/>
              </a:rPr>
              <a:t>&gt;&gt; </a:t>
            </a:r>
            <a:r>
              <a:rPr b="1" lang="en-US" sz="2400" spc="-1" strike="noStrike">
                <a:solidFill>
                  <a:srgbClr val="ff0000"/>
                </a:solidFill>
                <a:latin typeface="bold"/>
              </a:rPr>
              <a:t>DATA = ts_slice('NAME',[1995,1,1],[2001,12,31],'hour');</a:t>
            </a:r>
            <a:r>
              <a:rPr b="1" lang="en-US" sz="2800" spc="-1" strike="noStrike">
                <a:solidFill>
                  <a:srgbClr val="ff0000"/>
                </a:solidFill>
                <a:latin typeface="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ld"/>
              </a:rPr>
              <a:t>&gt;&gt; ts_export(DATA,'DATA.txt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name is a data set in Augsburg, CDAWeb, COHOWeb, DMI, FMI, ISGI, Kyoto, NGDC, NSSDC, Nagoya, OMNIWeb, SEC, USAF, WSO, Yah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sds_logo" descr=""/>
          <p:cNvPicPr/>
          <p:nvPr/>
        </p:nvPicPr>
        <p:blipFill>
          <a:blip r:embed="rId1"/>
          <a:stretch/>
        </p:blipFill>
        <p:spPr>
          <a:xfrm>
            <a:off x="6226200" y="0"/>
            <a:ext cx="39085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521172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90644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gsburg – ULF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DA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HOWe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MI – 1 hour &amp; 1 min gnd magnetometer in WDC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MI – 1 min gnd magnetometer in W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GI – am, Ap, quiet da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y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Web – transform matrix to GSE from GSM, GEI, GEO, GSM, GSEQ, HEE, HAE, HEE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MNI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 – Real time solar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F – predicted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SA – predicted V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 and depend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 – unzip and start; all dependencies are in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X – need Octave or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XP – need Octave or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638520"/>
            <a:ext cx="90644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5105520"/>
            <a:ext cx="906444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core .m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.pl format conversion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.m format conversion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b</cp:lastModifiedBy>
  <dcterms:modified xsi:type="dcterms:W3CDTF">2006-05-23T10:44:06Z</dcterms:modified>
  <cp:revision>137</cp:revision>
  <dc:subject/>
  <dc:title>[The Virtual Radiation Belt Observatory]</dc:title>
</cp:coreProperties>
</file>